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7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png" ContentType="image/png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071-E53D-4C5A-97CC-D9FB397C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7D4C-D40E-405C-A398-CA677BF7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99D4-EED5-4345-BBCD-73D1F7BD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B18B-224D-49D3-9223-B691EBB6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AB3F-F897-4B2D-B45A-5079C50C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A3D4-9A49-4BAE-B4A9-A2B3433E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F2C1-274C-4D89-9DDC-045CEB84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30AC-3150-4F4D-80DA-F23C17AF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21C-3993-432C-96E9-5701DC88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C36B-D826-4CA4-BF27-FB34E611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3A08-13FB-4B95-A990-C54E3E3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5ECF-4DFF-4A81-9977-5A7E5CE8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56FF-9257-493B-A9AD-DA4F1F11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58E5-53A9-4425-B067-0B1880EB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40BF-C556-41BF-8562-1A45D0D7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7995-F27E-4D15-B7DF-BFF692EA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9A89-C722-4D35-B0DD-9DF4A293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6F53-2B85-4078-9645-6218C577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595D-8312-48C2-B278-5344A3C8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CED-CFBC-4FF4-B13F-94A6A664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E18B-E565-4100-B116-0D695661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26D6-7E52-4A70-BF92-54967FE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A266-2275-4EE7-B974-809F9536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EC78-DAE5-4CF0-BFB4-0B8014E4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CAFF-2A4F-499D-BDE0-CED8B29B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66E6-B488-4429-B8D5-CCE52855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5F72-1575-4DA9-ABB2-C06212FB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78C48-6EE7-46D9-A682-E7972EAD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FD95-BB47-4C92-903E-0C100E53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3F0CE-C132-495F-AC0D-B63A2D04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FCF-336C-474D-A06D-BECD14C9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9279-2604-4BB9-A75F-3599BE27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0B34-88C3-4EA1-A834-6C018A1E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46D3-5DA6-4386-A3DC-ED436487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232C8-862D-4018-BD0D-E1B432DE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6D34-F68D-4399-927F-6EAB2500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1B99-F951-4D13-912C-EC930284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3E29-04F9-4FEB-AA20-DB4D9F74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35BC-A382-4C4E-AF62-E30A94F8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437D-7D88-47CE-BC43-B5C1A642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8890-1069-4430-9FE8-909801CD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2FE-0186-44C9-80EA-B7F915EA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2791B-A09E-4F9D-BA60-94BE16EF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06E93-6387-49B6-BE23-24110810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846FD-7BAC-4565-AC18-5493D397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12EB7-E297-40AF-9120-CB1E3ED7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B0AD1-C899-4972-A437-C55EAB75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DACFA-BD82-425D-8F72-C5DE969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05FCF-D7C6-425B-AA83-1C5282F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4AA28-2890-481A-8E18-E57F0518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84B2-4B6C-4B29-A58F-6970B922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AD38D-CDFC-41F4-A46D-62CD66E7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DBC-A62D-4AA4-8E4B-B14C3A58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A48A7-03DD-4B41-ADDE-0F4E9F4A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5075A-6BBE-4AD6-8CFB-215D8EF4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CF341-277E-4FA5-BFF2-5C14EE71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5D6CD-1397-4EA6-A1CD-253BB805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1A56-4C86-40A4-A09A-1AD7EA10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DDF0B-A785-4DB5-9198-012030C8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9C77-BE8B-413E-AD73-AB56EA65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C50B-012B-4756-A4EA-E16C60B4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DDA53-CF7B-47F9-93F5-BEAC1DEF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FFA99-AE7B-4B88-8CF7-D09D4892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FB8-E350-4E12-AFEE-212CEB68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FF2E1-F2AB-4965-8F1C-B5290ECF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456E-7008-453D-A48C-9D2A22A8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6D64D-11A4-4542-AD43-BB5A4914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D4BCD-CC7F-43CA-BE2F-57168611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A5CC-3AB7-4B7B-81C3-B882D357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D5C0-A98A-4BC7-B2B0-BACFFA4B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7A4B0-8B2F-4FE6-9102-F4F2272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369F6-AF79-4C93-B569-3B1C04D6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597BD-7A79-43F3-A635-13E79E0F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2F9B3-6093-42BB-AC83-731CF379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A99-28CE-4085-BA10-F0B8DD0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A6A67-4E69-4DDC-AC32-C9A1FB94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52EE0-1B47-4DA9-9850-5F3C1A38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6F171-B0A6-4DAE-9A0A-8CDECAF1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D7441-01FC-47F6-B3A9-022F72FF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01A96-DB9C-4D8E-94E1-0F5790A2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EBC0B-FC00-487E-AC2A-3FE7398D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EA649-BB24-4090-A8EA-F5B862F3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C0599-25ED-45B9-821A-01F2706E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7DA52-493C-426C-8E3B-981CE5F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C93A8-6525-415F-95B6-B405EC94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0B6-210F-48DF-AACD-0DCEDBC7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44880-2A1E-403B-9923-E1D4FEF7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784A7-F439-4645-93F5-0CD1861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03E4B-3418-4874-9F3A-F9CA3087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6DFE8-F27C-448D-83E2-0CB7133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41475-22E6-4BD8-B4F1-30BB26DE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D8DEB-2F33-4F2E-8B22-915B1D92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44035-10B7-4DCA-9B7B-35C65EF5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569A3-C39A-462C-8B36-584D9F26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A200E-81A1-4227-B2F5-4634FC74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88003-47E6-4B31-824F-05EC5F53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6A5-4B52-4E3B-9932-E9A2175F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C2A6C-6039-4746-8F3D-DDC16D3D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5C27A-34EA-4192-B9BE-CDB2FFCE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D14DA-375F-47FB-A26F-A34F9717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990BE-A639-4957-9E6F-03C52229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B57D8-38C8-491C-B6B3-F376FE9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F4DB0-0CF4-42CE-A4D6-0D9C3D96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E412C-E789-445E-BA55-08EC5352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FD65C-5CF3-4955-8A9E-003B004F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960BF-499D-4593-9873-7F8F98EB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E1B89-216B-4726-A79F-E0289C4D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753-3CCE-489C-867C-32FFD152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A7CB6-4F6C-43CF-8D4E-AACE3E98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F6CE5-8A73-4F05-ABD7-D70DA455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78F27-B282-45F1-B2B0-7E138D2D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1935A-61A7-4E68-A5FA-F8C65640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E5EE6-2C8B-4568-83F0-B899777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81481-DD81-4C7F-B1E4-87673D09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535EB-6CE3-4B66-A86D-6F71AFCA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99D27-408E-47D9-A8E2-FE4ED53B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DEEDF-9D16-4419-AB8B-FDEE220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3B4AA-5C01-43F8-9707-09515AEB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34A-42F0-407E-A8CE-2E835939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1FE33-09EB-4F19-B514-0E24DFE1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FD347-5B4D-48C5-9B9C-C244A78B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272AC-B295-4A8F-BD4C-B603EB82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6DF43-9226-44B3-B24C-40DC8ABA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3E88D-CC0C-42D6-9F3C-5F18F404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BA0C7-A39A-4AAA-A070-F5D32A13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70879-A242-4992-B7CB-66290136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79BA0-85EE-469E-893B-02EBA1B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53A46-B7AE-473C-8475-3B095C4B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6435F-F26C-40A0-9D70-8F4B3A10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1DF71-C7CB-42D3-A541-0243128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D42DF-2BCE-4C0B-A9E1-61727F47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822E2-7CAE-4E38-8AFB-75F97194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F137F-6F8A-4761-9845-6C63459F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7E966-AF77-4DF1-87E9-87C89601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92DB8-38B9-4665-B550-F690BF12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07D04-FC8A-4465-A24E-C41B043C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10A5E-77C0-4FB4-B69D-C9ADE7C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10ABE-E4EF-4693-B0C6-BABD8D46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21C98-2CB9-4B5C-B070-D373027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85D8C-F6FD-4F2C-9AC9-0E5EA337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D2559-8EF7-4C24-8E30-63995824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D0CF4-1CFC-4415-8687-C0341943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D9F00-5394-4491-A8EB-1516A6E0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D991D-BAD3-48D1-B351-499A3164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2B1-13DC-4651-978E-B92F5ABBE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2276-8821-4DEF-A4CE-7ED87D9A4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CD19-CB33-4AFA-BEB5-781486C04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8B75-017C-42D9-A567-695B247DC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2BE4-0C82-45BE-AE22-4D504CB02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6A26-B08B-44F5-BB5D-98E9315F4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8D13-3936-49F3-8984-4DA8AB83E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3F53-504B-4CD4-8BD5-7697C5228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509A-EA63-443B-BF55-CDE6B1094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58D-BEBA-4EAE-9F48-649D78898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94BA-35C7-48CE-923C-62C0DB97D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B406-81BD-4A81-8F16-E3BDC8C955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1" descr="Zambia Agriculture Research Institute"/>
          <p:cNvPicPr/>
          <p:nvPr/>
        </p:nvPicPr>
        <p:blipFill>
          <a:blip r:embed="rId2"/>
          <a:stretch/>
        </p:blipFill>
        <p:spPr>
          <a:xfrm>
            <a:off x="0" y="2300400"/>
            <a:ext cx="1752480" cy="1433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3"/>
          <a:stretch/>
        </p:blipFill>
        <p:spPr>
          <a:xfrm>
            <a:off x="0" y="55897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924" name="TextBox 16"/>
          <p:cNvSpPr/>
          <p:nvPr/>
        </p:nvSpPr>
        <p:spPr>
          <a:xfrm>
            <a:off x="0" y="9907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595959"/>
                </a:solidFill>
                <a:latin typeface="Tahoma"/>
                <a:ea typeface="Tahoma"/>
              </a:rPr>
              <a:t>Commercialising  aflasafe as a biocontrol for aflatox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4"/>
          <a:stretch/>
        </p:blipFill>
        <p:spPr>
          <a:xfrm>
            <a:off x="2924280" y="2438280"/>
            <a:ext cx="32479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926" name="Group 7"/>
          <p:cNvGrpSpPr/>
          <p:nvPr/>
        </p:nvGrpSpPr>
        <p:grpSpPr>
          <a:xfrm>
            <a:off x="209520" y="4165560"/>
            <a:ext cx="1238400" cy="1244520"/>
            <a:chOff x="209520" y="4165560"/>
            <a:chExt cx="1238400" cy="1244520"/>
          </a:xfrm>
        </p:grpSpPr>
        <p:pic>
          <p:nvPicPr>
            <p:cNvPr id="927" name="Picture 3" descr="nisirlogo"/>
            <p:cNvPicPr/>
            <p:nvPr/>
          </p:nvPicPr>
          <p:blipFill>
            <a:blip r:embed="rId5"/>
            <a:stretch/>
          </p:blipFill>
          <p:spPr>
            <a:xfrm>
              <a:off x="405720" y="4364640"/>
              <a:ext cx="8420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AutoShape 4"/>
            <p:cNvSpPr/>
            <p:nvPr/>
          </p:nvSpPr>
          <p:spPr>
            <a:xfrm>
              <a:off x="209520" y="4165560"/>
              <a:ext cx="1238400" cy="1244520"/>
            </a:xfrm>
            <a:custGeom>
              <a:avLst/>
              <a:gdLst>
                <a:gd name="textAreaLeft" fmla="*/ 181080 w 1238400"/>
                <a:gd name="textAreaRight" fmla="*/ 1057320 w 1238400"/>
                <a:gd name="textAreaTop" fmla="*/ 182160 h 1244520"/>
                <a:gd name="textAreaBottom" fmla="*/ 1062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544" y="10800"/>
                  </a:moveTo>
                  <a:cubicBezTo>
                    <a:pt x="3544" y="14807"/>
                    <a:pt x="6793" y="18056"/>
                    <a:pt x="10800" y="18056"/>
                  </a:cubicBezTo>
                  <a:cubicBezTo>
                    <a:pt x="14807" y="18056"/>
                    <a:pt x="18056" y="14807"/>
                    <a:pt x="18056" y="10800"/>
                  </a:cubicBezTo>
                  <a:cubicBezTo>
                    <a:pt x="18056" y="6793"/>
                    <a:pt x="14807" y="3544"/>
                    <a:pt x="10800" y="3544"/>
                  </a:cubicBezTo>
                  <a:cubicBezTo>
                    <a:pt x="6793" y="3544"/>
                    <a:pt x="3544" y="6793"/>
                    <a:pt x="3544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16"/>
          <p:cNvSpPr/>
          <p:nvPr/>
        </p:nvSpPr>
        <p:spPr>
          <a:xfrm>
            <a:off x="2724120" y="0"/>
            <a:ext cx="65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s’ Meeting, 3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 September 2016, Lus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me 4:  Current achievements &amp;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"/>
          <p:cNvSpPr/>
          <p:nvPr/>
        </p:nvSpPr>
        <p:spPr>
          <a:xfrm>
            <a:off x="155520" y="-1150920"/>
            <a:ext cx="67438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8" descr="Macintosh HD:Users:alys.yng:Dropbox:Research:Zambia:AA GNIAA - INGENEAS:Communication Tools:Logos - INGENAES:ingenaesLogos2.png"/>
          <p:cNvPicPr/>
          <p:nvPr/>
        </p:nvPicPr>
        <p:blipFill>
          <a:blip r:embed="rId7"/>
          <a:stretch/>
        </p:blipFill>
        <p:spPr>
          <a:xfrm>
            <a:off x="6899400" y="5948280"/>
            <a:ext cx="2122200" cy="71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9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2239920" cy="790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0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6899400" y="4363920"/>
            <a:ext cx="212220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Dossier submitted to Z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11"/>
          <p:cNvGrpSpPr/>
          <p:nvPr/>
        </p:nvGrpSpPr>
        <p:grpSpPr>
          <a:xfrm>
            <a:off x="95400" y="5743440"/>
            <a:ext cx="2641320" cy="962280"/>
            <a:chOff x="95400" y="5743440"/>
            <a:chExt cx="2641320" cy="962280"/>
          </a:xfrm>
        </p:grpSpPr>
        <p:sp>
          <p:nvSpPr>
            <p:cNvPr id="1006" name="Rounded Rectangle 12"/>
            <p:cNvSpPr/>
            <p:nvPr/>
          </p:nvSpPr>
          <p:spPr>
            <a:xfrm>
              <a:off x="95400" y="5743440"/>
              <a:ext cx="2641320" cy="96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4"/>
            <p:cNvSpPr/>
            <p:nvPr/>
          </p:nvSpPr>
          <p:spPr>
            <a:xfrm>
              <a:off x="142920" y="5790960"/>
              <a:ext cx="25462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-submission of Dossier-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et to be 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4"/>
          <p:cNvGrpSpPr/>
          <p:nvPr/>
        </p:nvGrpSpPr>
        <p:grpSpPr>
          <a:xfrm>
            <a:off x="76320" y="4343400"/>
            <a:ext cx="2641320" cy="961920"/>
            <a:chOff x="76320" y="4343400"/>
            <a:chExt cx="2641320" cy="961920"/>
          </a:xfrm>
        </p:grpSpPr>
        <p:sp>
          <p:nvSpPr>
            <p:cNvPr id="1009" name="Rounded Rectangle 16"/>
            <p:cNvSpPr/>
            <p:nvPr/>
          </p:nvSpPr>
          <p:spPr>
            <a:xfrm>
              <a:off x="76320" y="4343400"/>
              <a:ext cx="264132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4"/>
            <p:cNvSpPr/>
            <p:nvPr/>
          </p:nvSpPr>
          <p:spPr>
            <a:xfrm>
              <a:off x="123840" y="4390920"/>
              <a:ext cx="25462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vision of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9"/>
          <p:cNvGrpSpPr/>
          <p:nvPr/>
        </p:nvGrpSpPr>
        <p:grpSpPr>
          <a:xfrm>
            <a:off x="82440" y="1600200"/>
            <a:ext cx="2641680" cy="961920"/>
            <a:chOff x="82440" y="1600200"/>
            <a:chExt cx="2641680" cy="961920"/>
          </a:xfrm>
        </p:grpSpPr>
        <p:sp>
          <p:nvSpPr>
            <p:cNvPr id="1012" name="Rounded Rectangle 20"/>
            <p:cNvSpPr/>
            <p:nvPr/>
          </p:nvSpPr>
          <p:spPr>
            <a:xfrm>
              <a:off x="82440" y="1600200"/>
              <a:ext cx="264168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4"/>
            <p:cNvSpPr/>
            <p:nvPr/>
          </p:nvSpPr>
          <p:spPr>
            <a:xfrm>
              <a:off x="129960" y="1647720"/>
              <a:ext cx="25466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bmission of Application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22"/>
          <p:cNvGrpSpPr/>
          <p:nvPr/>
        </p:nvGrpSpPr>
        <p:grpSpPr>
          <a:xfrm>
            <a:off x="76320" y="2971800"/>
            <a:ext cx="2641320" cy="969840"/>
            <a:chOff x="76320" y="2971800"/>
            <a:chExt cx="2641320" cy="969840"/>
          </a:xfrm>
        </p:grpSpPr>
        <p:sp>
          <p:nvSpPr>
            <p:cNvPr id="1015" name="Rounded Rectangle 23"/>
            <p:cNvSpPr/>
            <p:nvPr/>
          </p:nvSpPr>
          <p:spPr>
            <a:xfrm>
              <a:off x="76320" y="2971800"/>
              <a:ext cx="2641320" cy="969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4"/>
            <p:cNvSpPr/>
            <p:nvPr/>
          </p:nvSpPr>
          <p:spPr>
            <a:xfrm>
              <a:off x="146160" y="3019320"/>
              <a:ext cx="2501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ssier Review &amp; Feedback to Applic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7" name="Group 25" descr=""/>
          <p:cNvPicPr/>
          <p:nvPr/>
        </p:nvPicPr>
        <p:blipFill>
          <a:blip r:embed="rId2"/>
          <a:stretch/>
        </p:blipFill>
        <p:spPr>
          <a:xfrm>
            <a:off x="3236760" y="1584360"/>
            <a:ext cx="2670480" cy="946080"/>
          </a:xfrm>
          <a:prstGeom prst="rect">
            <a:avLst/>
          </a:prstGeom>
          <a:ln w="0">
            <a:noFill/>
          </a:ln>
        </p:spPr>
      </p:pic>
      <p:pic>
        <p:nvPicPr>
          <p:cNvPr id="1018" name="Group 28" descr=""/>
          <p:cNvPicPr/>
          <p:nvPr/>
        </p:nvPicPr>
        <p:blipFill>
          <a:blip r:embed="rId3"/>
          <a:stretch/>
        </p:blipFill>
        <p:spPr>
          <a:xfrm>
            <a:off x="3365640" y="3645000"/>
            <a:ext cx="2670120" cy="946080"/>
          </a:xfrm>
          <a:prstGeom prst="rect">
            <a:avLst/>
          </a:prstGeom>
          <a:ln w="0">
            <a:noFill/>
          </a:ln>
        </p:spPr>
      </p:pic>
      <p:pic>
        <p:nvPicPr>
          <p:cNvPr id="1019" name="Group 31" descr=""/>
          <p:cNvPicPr/>
          <p:nvPr/>
        </p:nvPicPr>
        <p:blipFill>
          <a:blip r:embed="rId4"/>
          <a:stretch/>
        </p:blipFill>
        <p:spPr>
          <a:xfrm>
            <a:off x="6188040" y="3645000"/>
            <a:ext cx="2664000" cy="946080"/>
          </a:xfrm>
          <a:prstGeom prst="rect">
            <a:avLst/>
          </a:prstGeom>
          <a:ln w="0">
            <a:noFill/>
          </a:ln>
        </p:spPr>
      </p:pic>
      <p:pic>
        <p:nvPicPr>
          <p:cNvPr id="1020" name="Group 34" descr=""/>
          <p:cNvPicPr/>
          <p:nvPr/>
        </p:nvPicPr>
        <p:blipFill>
          <a:blip r:embed="rId5"/>
          <a:stretch/>
        </p:blipFill>
        <p:spPr>
          <a:xfrm>
            <a:off x="4584600" y="5778360"/>
            <a:ext cx="2670120" cy="946440"/>
          </a:xfrm>
          <a:prstGeom prst="rect">
            <a:avLst/>
          </a:prstGeom>
          <a:ln w="0">
            <a:noFill/>
          </a:ln>
        </p:spPr>
      </p:pic>
      <p:pic>
        <p:nvPicPr>
          <p:cNvPr id="1021" name="Group 37" descr=""/>
          <p:cNvPicPr/>
          <p:nvPr/>
        </p:nvPicPr>
        <p:blipFill>
          <a:blip r:embed="rId6"/>
          <a:stretch/>
        </p:blipFill>
        <p:spPr>
          <a:xfrm>
            <a:off x="6315120" y="1633680"/>
            <a:ext cx="2663640" cy="944280"/>
          </a:xfrm>
          <a:prstGeom prst="rect">
            <a:avLst/>
          </a:prstGeom>
          <a:ln w="0">
            <a:noFill/>
          </a:ln>
        </p:spPr>
      </p:pic>
      <p:sp>
        <p:nvSpPr>
          <p:cNvPr id="1022" name="Striped Right Arrow 3"/>
          <p:cNvSpPr/>
          <p:nvPr/>
        </p:nvSpPr>
        <p:spPr>
          <a:xfrm>
            <a:off x="2895480" y="6059520"/>
            <a:ext cx="1600200" cy="380880"/>
          </a:xfrm>
          <a:custGeom>
            <a:avLst/>
            <a:gdLst/>
            <a:ahLst/>
            <a:rect l="l" t="t" r="r" b="b"/>
            <a:pathLst>
              <a:path w="16002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lnTo>
                  <a:pt x="0" y="952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lnTo>
                  <a:pt x="23813" y="95250"/>
                </a:lnTo>
                <a:close/>
                <a:moveTo>
                  <a:pt x="59531" y="95250"/>
                </a:moveTo>
                <a:lnTo>
                  <a:pt x="1409700" y="95250"/>
                </a:lnTo>
                <a:lnTo>
                  <a:pt x="1409700" y="0"/>
                </a:lnTo>
                <a:lnTo>
                  <a:pt x="1600200" y="190500"/>
                </a:lnTo>
                <a:lnTo>
                  <a:pt x="1409700" y="381000"/>
                </a:lnTo>
                <a:lnTo>
                  <a:pt x="1409700" y="285750"/>
                </a:lnTo>
                <a:lnTo>
                  <a:pt x="59531" y="285750"/>
                </a:lnTo>
                <a:lnTo>
                  <a:pt x="59531" y="9525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iped Right Arrow 40"/>
          <p:cNvSpPr/>
          <p:nvPr/>
        </p:nvSpPr>
        <p:spPr>
          <a:xfrm rot="14026200">
            <a:off x="4408200" y="5111280"/>
            <a:ext cx="1370160" cy="160200"/>
          </a:xfrm>
          <a:custGeom>
            <a:avLst/>
            <a:gdLst/>
            <a:ahLst/>
            <a:rect l="l" t="t" r="r" b="b"/>
            <a:pathLst>
              <a:path w="1370012" h="160338">
                <a:moveTo>
                  <a:pt x="0" y="40085"/>
                </a:moveTo>
                <a:lnTo>
                  <a:pt x="5011" y="40085"/>
                </a:lnTo>
                <a:lnTo>
                  <a:pt x="5011" y="120254"/>
                </a:lnTo>
                <a:lnTo>
                  <a:pt x="0" y="120254"/>
                </a:lnTo>
                <a:lnTo>
                  <a:pt x="0" y="40085"/>
                </a:lnTo>
                <a:close/>
                <a:moveTo>
                  <a:pt x="10021" y="40085"/>
                </a:moveTo>
                <a:lnTo>
                  <a:pt x="20042" y="40085"/>
                </a:lnTo>
                <a:lnTo>
                  <a:pt x="20042" y="120254"/>
                </a:lnTo>
                <a:lnTo>
                  <a:pt x="10021" y="120254"/>
                </a:lnTo>
                <a:lnTo>
                  <a:pt x="10021" y="40085"/>
                </a:lnTo>
                <a:close/>
                <a:moveTo>
                  <a:pt x="25053" y="40085"/>
                </a:moveTo>
                <a:lnTo>
                  <a:pt x="1289843" y="40085"/>
                </a:lnTo>
                <a:lnTo>
                  <a:pt x="1289843" y="0"/>
                </a:lnTo>
                <a:lnTo>
                  <a:pt x="1370012" y="80169"/>
                </a:lnTo>
                <a:lnTo>
                  <a:pt x="1289843" y="160338"/>
                </a:lnTo>
                <a:lnTo>
                  <a:pt x="1289843" y="120254"/>
                </a:lnTo>
                <a:lnTo>
                  <a:pt x="25053" y="120254"/>
                </a:lnTo>
                <a:lnTo>
                  <a:pt x="25053" y="400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iped Right Arrow 41"/>
          <p:cNvSpPr/>
          <p:nvPr/>
        </p:nvSpPr>
        <p:spPr>
          <a:xfrm rot="18195600">
            <a:off x="6334920" y="5108400"/>
            <a:ext cx="1368720" cy="158760"/>
          </a:xfrm>
          <a:custGeom>
            <a:avLst/>
            <a:gdLst/>
            <a:ahLst/>
            <a:rect l="l" t="t" r="r" b="b"/>
            <a:pathLst>
              <a:path w="1368425" h="158750">
                <a:moveTo>
                  <a:pt x="0" y="39688"/>
                </a:moveTo>
                <a:lnTo>
                  <a:pt x="4961" y="39688"/>
                </a:lnTo>
                <a:lnTo>
                  <a:pt x="4961" y="119063"/>
                </a:lnTo>
                <a:lnTo>
                  <a:pt x="0" y="119063"/>
                </a:lnTo>
                <a:lnTo>
                  <a:pt x="0" y="39688"/>
                </a:lnTo>
                <a:close/>
                <a:moveTo>
                  <a:pt x="9922" y="39688"/>
                </a:moveTo>
                <a:lnTo>
                  <a:pt x="19844" y="39688"/>
                </a:lnTo>
                <a:lnTo>
                  <a:pt x="19844" y="119063"/>
                </a:lnTo>
                <a:lnTo>
                  <a:pt x="9922" y="119063"/>
                </a:lnTo>
                <a:lnTo>
                  <a:pt x="9922" y="39688"/>
                </a:lnTo>
                <a:close/>
                <a:moveTo>
                  <a:pt x="24805" y="39688"/>
                </a:moveTo>
                <a:lnTo>
                  <a:pt x="1289050" y="39688"/>
                </a:lnTo>
                <a:lnTo>
                  <a:pt x="1289050" y="0"/>
                </a:lnTo>
                <a:lnTo>
                  <a:pt x="1368425" y="79375"/>
                </a:lnTo>
                <a:lnTo>
                  <a:pt x="1289050" y="158750"/>
                </a:lnTo>
                <a:lnTo>
                  <a:pt x="1289050" y="119063"/>
                </a:lnTo>
                <a:lnTo>
                  <a:pt x="24805" y="119063"/>
                </a:lnTo>
                <a:lnTo>
                  <a:pt x="24805" y="39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iped Right Arrow 42"/>
          <p:cNvSpPr/>
          <p:nvPr/>
        </p:nvSpPr>
        <p:spPr>
          <a:xfrm rot="15835200">
            <a:off x="3625560" y="3024000"/>
            <a:ext cx="1055520" cy="118800"/>
          </a:xfrm>
          <a:custGeom>
            <a:avLst/>
            <a:gdLst/>
            <a:ahLst/>
            <a:rect l="l" t="t" r="r" b="b"/>
            <a:pathLst>
              <a:path w="1055688" h="119062">
                <a:moveTo>
                  <a:pt x="0" y="29766"/>
                </a:moveTo>
                <a:lnTo>
                  <a:pt x="3721" y="29766"/>
                </a:lnTo>
                <a:lnTo>
                  <a:pt x="3721" y="89297"/>
                </a:lnTo>
                <a:lnTo>
                  <a:pt x="0" y="89297"/>
                </a:lnTo>
                <a:lnTo>
                  <a:pt x="0" y="29766"/>
                </a:lnTo>
                <a:close/>
                <a:moveTo>
                  <a:pt x="7441" y="29766"/>
                </a:moveTo>
                <a:lnTo>
                  <a:pt x="14883" y="29766"/>
                </a:lnTo>
                <a:lnTo>
                  <a:pt x="14883" y="89297"/>
                </a:lnTo>
                <a:lnTo>
                  <a:pt x="7441" y="89297"/>
                </a:lnTo>
                <a:lnTo>
                  <a:pt x="7441" y="29766"/>
                </a:lnTo>
                <a:close/>
                <a:moveTo>
                  <a:pt x="18603" y="29766"/>
                </a:moveTo>
                <a:lnTo>
                  <a:pt x="996157" y="29766"/>
                </a:lnTo>
                <a:lnTo>
                  <a:pt x="996157" y="0"/>
                </a:lnTo>
                <a:lnTo>
                  <a:pt x="1055688" y="59531"/>
                </a:lnTo>
                <a:lnTo>
                  <a:pt x="996157" y="119062"/>
                </a:lnTo>
                <a:lnTo>
                  <a:pt x="996157" y="89297"/>
                </a:lnTo>
                <a:lnTo>
                  <a:pt x="18603" y="89297"/>
                </a:lnTo>
                <a:lnTo>
                  <a:pt x="18603" y="2976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iped Right Arrow 43"/>
          <p:cNvSpPr/>
          <p:nvPr/>
        </p:nvSpPr>
        <p:spPr>
          <a:xfrm flipV="1" rot="19268400">
            <a:off x="5421240" y="3068640"/>
            <a:ext cx="1577520" cy="104760"/>
          </a:xfrm>
          <a:custGeom>
            <a:avLst/>
            <a:gdLst/>
            <a:ahLst/>
            <a:rect l="l" t="t" r="r" b="b"/>
            <a:pathLst>
              <a:path w="1577975" h="104775">
                <a:moveTo>
                  <a:pt x="0" y="26194"/>
                </a:moveTo>
                <a:lnTo>
                  <a:pt x="3274" y="26194"/>
                </a:lnTo>
                <a:lnTo>
                  <a:pt x="3274" y="78581"/>
                </a:lnTo>
                <a:lnTo>
                  <a:pt x="0" y="78581"/>
                </a:lnTo>
                <a:lnTo>
                  <a:pt x="0" y="26194"/>
                </a:lnTo>
                <a:close/>
                <a:moveTo>
                  <a:pt x="6548" y="26194"/>
                </a:moveTo>
                <a:lnTo>
                  <a:pt x="13097" y="26194"/>
                </a:lnTo>
                <a:lnTo>
                  <a:pt x="13097" y="78581"/>
                </a:lnTo>
                <a:lnTo>
                  <a:pt x="6548" y="78581"/>
                </a:lnTo>
                <a:lnTo>
                  <a:pt x="6548" y="26194"/>
                </a:lnTo>
                <a:close/>
                <a:moveTo>
                  <a:pt x="16371" y="26194"/>
                </a:moveTo>
                <a:lnTo>
                  <a:pt x="1525588" y="26194"/>
                </a:lnTo>
                <a:lnTo>
                  <a:pt x="1525588" y="0"/>
                </a:lnTo>
                <a:lnTo>
                  <a:pt x="1577975" y="52388"/>
                </a:lnTo>
                <a:lnTo>
                  <a:pt x="1525588" y="104775"/>
                </a:lnTo>
                <a:lnTo>
                  <a:pt x="1525588" y="78581"/>
                </a:lnTo>
                <a:lnTo>
                  <a:pt x="16371" y="78581"/>
                </a:lnTo>
                <a:lnTo>
                  <a:pt x="16371" y="2619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4632480" y="1006560"/>
          <a:ext cx="4511520" cy="1598400"/>
        </p:xfrm>
        <a:graphic>
          <a:graphicData uri="http://schemas.openxmlformats.org/drawingml/2006/table">
            <a:tbl>
              <a:tblPr/>
              <a:tblGrid>
                <a:gridCol w="4511520"/>
              </a:tblGrid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Y POINT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58800">
                <a:tc>
                  <a:txBody>
                    <a:bodyPr rIns="730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SINESS PLAN FOR AFLASAFE COMMERCIALISATION IN ZA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Working Draft- JANUARY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42840" y="1295280"/>
          <a:ext cx="2190600" cy="5521320"/>
        </p:xfrm>
        <a:graphic>
          <a:graphicData uri="http://schemas.openxmlformats.org/drawingml/2006/table">
            <a:tbl>
              <a:tblPr/>
              <a:tblGrid>
                <a:gridCol w="2190600"/>
              </a:tblGrid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AID-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F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A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 Province Farmers Cooperatives union (EPF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MSE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are Africa 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 Against Malnutrition (PA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ain Traders Association of Zambia (GTA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FIT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2316240" y="3137040"/>
          <a:ext cx="2495520" cy="3644640"/>
        </p:xfrm>
        <a:graphic>
          <a:graphicData uri="http://schemas.openxmlformats.org/drawingml/2006/table">
            <a:tbl>
              <a:tblPr/>
              <a:tblGrid>
                <a:gridCol w="2495520"/>
              </a:tblGrid>
              <a:tr h="8413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mallholder Agri Business Promotion Programme (SA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20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Department of Marketing and Agri-bus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19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llage headman &amp; Farmers in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1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tete District Women’s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3" name=""/>
          <p:cNvGraphicFramePr/>
          <p:nvPr/>
        </p:nvGraphicFramePr>
        <p:xfrm>
          <a:off x="4876920" y="4191120"/>
          <a:ext cx="4267080" cy="256068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8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Kab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1034" name="Rectangle 7"/>
          <p:cNvSpPr/>
          <p:nvPr/>
        </p:nvSpPr>
        <p:spPr>
          <a:xfrm>
            <a:off x="5369040" y="3359160"/>
            <a:ext cx="3698640" cy="50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4343400" y="853920"/>
            <a:ext cx="4695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aflasafe manufa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hare-Africa Za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AM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companies expressed need for seed money to jump start the manufactur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30, 000$ for aflasafe 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5"/>
          <p:cNvSpPr/>
          <p:nvPr/>
        </p:nvSpPr>
        <p:spPr>
          <a:xfrm>
            <a:off x="4295880" y="4302000"/>
            <a:ext cx="469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distribution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Lead firms: Organizations operating M/GN value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eed &amp; input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5"/>
          <p:cNvSpPr/>
          <p:nvPr/>
        </p:nvSpPr>
        <p:spPr>
          <a:xfrm>
            <a:off x="27000" y="1509840"/>
            <a:ext cx="4162320" cy="46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Market &amp;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60% of farmers willing to pay for such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Market: Local consumers, processors, Govt school feeding programs, regional tr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5. Trade assess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1066680" y="1703520"/>
            <a:ext cx="6782040" cy="503172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n Assessment Report of Trade Performance of Key Agricultural Value Chains in Zambia from 2013 to 201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ed and submit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Gregory Chans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pril, 201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FIT plus USAID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lot #18944 | Off Lubansheshi Road Olympia Park | Lusak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am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M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15" descr=""/>
          <p:cNvPicPr/>
          <p:nvPr/>
        </p:nvPicPr>
        <p:blipFill>
          <a:blip r:embed="rId2"/>
          <a:stretch/>
        </p:blipFill>
        <p:spPr>
          <a:xfrm>
            <a:off x="7337520" y="990720"/>
            <a:ext cx="1806480" cy="6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6. Awareness raising &amp; Capacity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44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759120" cy="2114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5" descr=""/>
          <p:cNvPicPr/>
          <p:nvPr/>
        </p:nvPicPr>
        <p:blipFill>
          <a:blip r:embed="rId3"/>
          <a:stretch/>
        </p:blipFill>
        <p:spPr>
          <a:xfrm>
            <a:off x="6553080" y="4686480"/>
            <a:ext cx="2514600" cy="20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3" name=""/>
          <p:cNvGraphicFramePr/>
          <p:nvPr/>
        </p:nvGraphicFramePr>
        <p:xfrm>
          <a:off x="76320" y="1600200"/>
          <a:ext cx="8915400" cy="264168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990360"/>
                <a:gridCol w="1371600"/>
                <a:gridCol w="685800"/>
                <a:gridCol w="990720"/>
                <a:gridCol w="762120"/>
                <a:gridCol w="1096920"/>
                <a:gridCol w="731880"/>
              </a:tblGrid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sung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ead 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Os/ C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4" name="Picture 46" descr=""/>
          <p:cNvPicPr/>
          <p:nvPr/>
        </p:nvPicPr>
        <p:blipFill>
          <a:blip r:embed="rId4"/>
          <a:stretch/>
        </p:blipFill>
        <p:spPr>
          <a:xfrm>
            <a:off x="4343400" y="4581360"/>
            <a:ext cx="16765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7"/>
          <p:cNvSpPr/>
          <p:nvPr/>
        </p:nvSpPr>
        <p:spPr>
          <a:xfrm>
            <a:off x="-457200" y="83664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ry spell experienced in Western &amp; Southern provinces negatively affected aflasafe deployment in pre-selected fiel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oor road networks: inaccessible fallen trees/ logs and thickets prevented access to fields in the fores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irds were a problem in forest areas cropped to maize &amp; groundnut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743200" y="19224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Challenges &amp; research ga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76320" y="4081320"/>
            <a:ext cx="4800600" cy="2700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3"/>
          <a:stretch/>
        </p:blipFill>
        <p:spPr>
          <a:xfrm>
            <a:off x="6626160" y="4081320"/>
            <a:ext cx="24670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-457200" y="83520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 development: A new consultant to be hired to finalize business plan developme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: Continue with the product registration proces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ata: Test aflasafe product region I &amp; III AEZ to gather 2</a:t>
            </a:r>
            <a:r>
              <a:rPr b="0" lang="en-GB" sz="23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d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 year efficacy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Gaps &amp; outloo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6320" y="4402080"/>
            <a:ext cx="4228920" cy="237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"/>
          <p:cNvPicPr/>
          <p:nvPr/>
        </p:nvPicPr>
        <p:blipFill>
          <a:blip r:embed="rId3"/>
          <a:stretch/>
        </p:blipFill>
        <p:spPr>
          <a:xfrm>
            <a:off x="6934320" y="44179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666880" y="457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6" descr=""/>
          <p:cNvPicPr/>
          <p:nvPr/>
        </p:nvPicPr>
        <p:blipFill>
          <a:blip r:embed="rId2"/>
          <a:stretch/>
        </p:blipFill>
        <p:spPr>
          <a:xfrm>
            <a:off x="152280" y="5365800"/>
            <a:ext cx="2514600" cy="1644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P1040794"/>
          <p:cNvPicPr/>
          <p:nvPr/>
        </p:nvPicPr>
        <p:blipFill>
          <a:blip r:embed="rId3"/>
          <a:stretch/>
        </p:blipFill>
        <p:spPr>
          <a:xfrm>
            <a:off x="4781520" y="914400"/>
            <a:ext cx="4406760" cy="5867280"/>
          </a:xfrm>
          <a:prstGeom prst="rect">
            <a:avLst/>
          </a:prstGeom>
          <a:ln w="0">
            <a:noFill/>
          </a:ln>
        </p:spPr>
      </p:pic>
      <p:sp>
        <p:nvSpPr>
          <p:cNvPr id="10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9" descr=""/>
          <p:cNvPicPr/>
          <p:nvPr/>
        </p:nvPicPr>
        <p:blipFill>
          <a:blip r:embed="rId4"/>
          <a:stretch/>
        </p:blipFill>
        <p:spPr>
          <a:xfrm>
            <a:off x="23240880" y="30403800"/>
            <a:ext cx="4724640" cy="165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5"/>
          <a:stretch/>
        </p:blipFill>
        <p:spPr>
          <a:xfrm>
            <a:off x="76320" y="2666880"/>
            <a:ext cx="2471760" cy="865440"/>
          </a:xfrm>
          <a:prstGeom prst="rect">
            <a:avLst/>
          </a:prstGeom>
          <a:ln w="0">
            <a:noFill/>
          </a:ln>
        </p:spPr>
      </p:pic>
      <p:pic>
        <p:nvPicPr>
          <p:cNvPr id="1073" name="Grafik 7" descr=""/>
          <p:cNvPicPr/>
          <p:nvPr/>
        </p:nvPicPr>
        <p:blipFill>
          <a:blip r:embed="rId6"/>
          <a:stretch/>
        </p:blipFill>
        <p:spPr>
          <a:xfrm>
            <a:off x="34920" y="3638520"/>
            <a:ext cx="2239920" cy="933480"/>
          </a:xfrm>
          <a:prstGeom prst="rect">
            <a:avLst/>
          </a:prstGeom>
          <a:ln w="0">
            <a:noFill/>
          </a:ln>
        </p:spPr>
      </p:pic>
      <p:sp>
        <p:nvSpPr>
          <p:cNvPr id="1074" name="AutoShape 14"/>
          <p:cNvSpPr/>
          <p:nvPr/>
        </p:nvSpPr>
        <p:spPr>
          <a:xfrm>
            <a:off x="155520" y="-1881360"/>
            <a:ext cx="33717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5" descr=""/>
          <p:cNvPicPr/>
          <p:nvPr/>
        </p:nvPicPr>
        <p:blipFill>
          <a:blip r:embed="rId7"/>
          <a:stretch/>
        </p:blipFill>
        <p:spPr>
          <a:xfrm>
            <a:off x="0" y="838080"/>
            <a:ext cx="1514520" cy="176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4" descr="Macintosh HD:Users:alys.yng:Dropbox:Research:Zambia:AA GNIAA - INGENEAS:Communication Tools:Logos - INGENAES:ingenaesLogos2.png"/>
          <p:cNvPicPr/>
          <p:nvPr/>
        </p:nvPicPr>
        <p:blipFill>
          <a:blip r:embed="rId8"/>
          <a:stretch/>
        </p:blipFill>
        <p:spPr>
          <a:xfrm>
            <a:off x="2362320" y="1949400"/>
            <a:ext cx="2122200" cy="716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6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2602080" y="3809880"/>
            <a:ext cx="2122200" cy="538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17"/>
          <p:cNvSpPr/>
          <p:nvPr/>
        </p:nvSpPr>
        <p:spPr>
          <a:xfrm>
            <a:off x="2286000" y="4729320"/>
            <a:ext cx="235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 </a:t>
            </a: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Aflasaf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15" descr=""/>
          <p:cNvPicPr/>
          <p:nvPr/>
        </p:nvPicPr>
        <p:blipFill>
          <a:blip r:embed="rId10"/>
          <a:stretch/>
        </p:blipFill>
        <p:spPr>
          <a:xfrm>
            <a:off x="34920" y="4610160"/>
            <a:ext cx="223992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ojec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76320" y="130824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conduct a trade assessment of key agricultural VCs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efficacy of two aflasafe biocontrol products in Region I and III agro-ecological zones of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business plan for commercializing aflasafe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dossier &amp; identify requirements for aflasafe registration &amp; 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cost benefits of using afla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ff"/>
                </a:solidFill>
                <a:latin typeface="Tahoma"/>
                <a:ea typeface="Tahoma"/>
              </a:rPr>
              <a:t>Aflasafe Technology: Planned activities &amp; Part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12"/>
          <p:cNvSpPr/>
          <p:nvPr/>
        </p:nvSpPr>
        <p:spPr>
          <a:xfrm>
            <a:off x="0" y="98892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12600" y="2757600"/>
            <a:ext cx="1752840" cy="21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Trade assessment +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Cost benefit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15"/>
          <p:cNvSpPr/>
          <p:nvPr/>
        </p:nvSpPr>
        <p:spPr>
          <a:xfrm>
            <a:off x="584280" y="1322280"/>
            <a:ext cx="8026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11" descr=""/>
          <p:cNvPicPr/>
          <p:nvPr/>
        </p:nvPicPr>
        <p:blipFill>
          <a:blip r:embed="rId1"/>
          <a:stretch/>
        </p:blipFill>
        <p:spPr>
          <a:xfrm>
            <a:off x="8174160" y="12970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1" descr=""/>
          <p:cNvPicPr/>
          <p:nvPr/>
        </p:nvPicPr>
        <p:blipFill>
          <a:blip r:embed="rId2"/>
          <a:stretch/>
        </p:blipFill>
        <p:spPr>
          <a:xfrm>
            <a:off x="4419720" y="13096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1" descr=""/>
          <p:cNvPicPr/>
          <p:nvPr/>
        </p:nvPicPr>
        <p:blipFill>
          <a:blip r:embed="rId3"/>
          <a:stretch/>
        </p:blipFill>
        <p:spPr>
          <a:xfrm>
            <a:off x="2535120" y="1295280"/>
            <a:ext cx="817560" cy="4065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1" descr=""/>
          <p:cNvPicPr/>
          <p:nvPr/>
        </p:nvPicPr>
        <p:blipFill>
          <a:blip r:embed="rId4"/>
          <a:stretch/>
        </p:blipFill>
        <p:spPr>
          <a:xfrm>
            <a:off x="6323040" y="1309680"/>
            <a:ext cx="817560" cy="412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1" descr=""/>
          <p:cNvPicPr/>
          <p:nvPr/>
        </p:nvPicPr>
        <p:blipFill>
          <a:blip r:embed="rId5"/>
          <a:stretch/>
        </p:blipFill>
        <p:spPr>
          <a:xfrm>
            <a:off x="200160" y="1297080"/>
            <a:ext cx="793440" cy="16034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1"/>
          <p:cNvSpPr/>
          <p:nvPr/>
        </p:nvSpPr>
        <p:spPr>
          <a:xfrm>
            <a:off x="3733920" y="2760840"/>
            <a:ext cx="2179440" cy="1144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value demon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"/>
          <p:cNvSpPr/>
          <p:nvPr/>
        </p:nvSpPr>
        <p:spPr>
          <a:xfrm>
            <a:off x="1952640" y="4800600"/>
            <a:ext cx="2127240" cy="794520"/>
          </a:xfrm>
          <a:prstGeom prst="rect">
            <a:avLst/>
          </a:prstGeom>
          <a:noFill/>
          <a:ln w="38160">
            <a:solidFill>
              <a:srgbClr val="55f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Efficacy trial in AEZs I &amp; I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"/>
          <p:cNvSpPr/>
          <p:nvPr/>
        </p:nvSpPr>
        <p:spPr>
          <a:xfrm>
            <a:off x="5943600" y="5030640"/>
            <a:ext cx="1476360" cy="79452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7281720" y="2728800"/>
            <a:ext cx="1828800" cy="794520"/>
          </a:xfrm>
          <a:prstGeom prst="rect">
            <a:avLst/>
          </a:prstGeom>
          <a:noFill/>
          <a:ln w="38160">
            <a:solidFill>
              <a:srgbClr val="fc4b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itle 8"/>
          <p:cNvSpPr/>
          <p:nvPr/>
        </p:nvSpPr>
        <p:spPr>
          <a:xfrm>
            <a:off x="0" y="4567320"/>
            <a:ext cx="1709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 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itle 8"/>
          <p:cNvSpPr/>
          <p:nvPr/>
        </p:nvSpPr>
        <p:spPr>
          <a:xfrm>
            <a:off x="2098800" y="5715000"/>
            <a:ext cx="171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US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itle 8"/>
          <p:cNvSpPr/>
          <p:nvPr/>
        </p:nvSpPr>
        <p:spPr>
          <a:xfrm>
            <a:off x="4079880" y="3595680"/>
            <a:ext cx="171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-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/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itle 8"/>
          <p:cNvSpPr/>
          <p:nvPr/>
        </p:nvSpPr>
        <p:spPr>
          <a:xfrm>
            <a:off x="6051600" y="5869080"/>
            <a:ext cx="1339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itle 8"/>
          <p:cNvSpPr/>
          <p:nvPr/>
        </p:nvSpPr>
        <p:spPr>
          <a:xfrm>
            <a:off x="7467480" y="3519360"/>
            <a:ext cx="17114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-76320" y="838080"/>
            <a:ext cx="9525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3333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Efficacy of Aflasafe in Region I &amp; III agro-ecological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(60.2 Ha treated (45 females, 57 males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33480" y="1973160"/>
          <a:ext cx="9067680" cy="2889360"/>
        </p:xfrm>
        <a:graphic>
          <a:graphicData uri="http://schemas.openxmlformats.org/drawingml/2006/table">
            <a:tbl>
              <a:tblPr/>
              <a:tblGrid>
                <a:gridCol w="934920"/>
                <a:gridCol w="1471680"/>
                <a:gridCol w="1444680"/>
                <a:gridCol w="1284120"/>
                <a:gridCol w="1363680"/>
                <a:gridCol w="1390680"/>
                <a:gridCol w="1177920"/>
              </a:tblGrid>
              <a:tr h="45756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es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uth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zung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2600" y="4981680"/>
            <a:ext cx="2730600" cy="1888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8" descr=""/>
          <p:cNvPicPr/>
          <p:nvPr/>
        </p:nvPicPr>
        <p:blipFill>
          <a:blip r:embed="rId3"/>
          <a:stretch/>
        </p:blipFill>
        <p:spPr>
          <a:xfrm>
            <a:off x="6019920" y="4924440"/>
            <a:ext cx="3124080" cy="1901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3276720" y="4959360"/>
            <a:ext cx="227160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1. Results: aflasafe effic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1447920"/>
          <a:ext cx="8839440" cy="5257800"/>
        </p:xfrm>
        <a:graphic>
          <a:graphicData uri="http://schemas.openxmlformats.org/drawingml/2006/table">
            <a:tbl>
              <a:tblPr/>
              <a:tblGrid>
                <a:gridCol w="1952640"/>
                <a:gridCol w="1704960"/>
                <a:gridCol w="1676520"/>
                <a:gridCol w="1676520"/>
                <a:gridCol w="1828800"/>
              </a:tblGrid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maize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groundnut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4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9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4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5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"/>
          <p:cNvSpPr/>
          <p:nvPr/>
        </p:nvSpPr>
        <p:spPr>
          <a:xfrm>
            <a:off x="0" y="8380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2. Aflasafe product value demonstration + Cost benefit analys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3360" y="1905120"/>
          <a:ext cx="9028080" cy="2797200"/>
        </p:xfrm>
        <a:graphic>
          <a:graphicData uri="http://schemas.openxmlformats.org/drawingml/2006/table">
            <a:tbl>
              <a:tblPr/>
              <a:tblGrid>
                <a:gridCol w="882720"/>
                <a:gridCol w="1536840"/>
                <a:gridCol w="1614240"/>
                <a:gridCol w="1920960"/>
                <a:gridCol w="1613160"/>
                <a:gridCol w="1460160"/>
              </a:tblGrid>
              <a:tr h="54900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490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tand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ng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368520" y="4829040"/>
            <a:ext cx="1508400" cy="2003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6" descr=""/>
          <p:cNvPicPr/>
          <p:nvPr/>
        </p:nvPicPr>
        <p:blipFill>
          <a:blip r:embed="rId3"/>
          <a:stretch/>
        </p:blipFill>
        <p:spPr>
          <a:xfrm>
            <a:off x="76320" y="4829040"/>
            <a:ext cx="2373120" cy="20131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C:\Users\mwale\Pictures\2016-04-28\013.jpg"/>
          <p:cNvPicPr/>
          <p:nvPr/>
        </p:nvPicPr>
        <p:blipFill>
          <a:blip r:embed="rId4"/>
          <a:stretch/>
        </p:blipFill>
        <p:spPr>
          <a:xfrm>
            <a:off x="5521320" y="4800600"/>
            <a:ext cx="3614760" cy="20750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2.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52280" y="1487520"/>
          <a:ext cx="8915400" cy="34192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581280"/>
              </a:tblGrid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un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Rectangle 4"/>
          <p:cNvSpPr/>
          <p:nvPr/>
        </p:nvSpPr>
        <p:spPr>
          <a:xfrm>
            <a:off x="0" y="5083200"/>
            <a:ext cx="9144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Aflatoxin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Cost benefit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Profit+ &amp; Share Africa Zambia  undertaking the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"/>
          <p:cNvPicPr/>
          <p:nvPr/>
        </p:nvPicPr>
        <p:blipFill>
          <a:blip r:embed="rId2"/>
          <a:stretch/>
        </p:blipFill>
        <p:spPr>
          <a:xfrm>
            <a:off x="76320" y="4172040"/>
            <a:ext cx="4640040" cy="2609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0" descr=""/>
          <p:cNvPicPr/>
          <p:nvPr/>
        </p:nvPicPr>
        <p:blipFill>
          <a:blip r:embed="rId3"/>
          <a:stretch/>
        </p:blipFill>
        <p:spPr>
          <a:xfrm>
            <a:off x="4888080" y="990720"/>
            <a:ext cx="4206600" cy="41148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5"/>
          <p:cNvSpPr/>
          <p:nvPr/>
        </p:nvSpPr>
        <p:spPr>
          <a:xfrm>
            <a:off x="47520" y="1600200"/>
            <a:ext cx="469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EMA Engagement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Field evaluation of afla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Requirement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4"/>
          <p:cNvGrpSpPr/>
          <p:nvPr/>
        </p:nvGrpSpPr>
        <p:grpSpPr>
          <a:xfrm>
            <a:off x="52560" y="4239720"/>
            <a:ext cx="3276360" cy="2598120"/>
            <a:chOff x="52560" y="4239720"/>
            <a:chExt cx="3276360" cy="2598120"/>
          </a:xfrm>
        </p:grpSpPr>
        <p:pic>
          <p:nvPicPr>
            <p:cNvPr id="995" name="Picture 3" descr=""/>
            <p:cNvPicPr/>
            <p:nvPr/>
          </p:nvPicPr>
          <p:blipFill>
            <a:blip r:embed="rId2"/>
            <a:stretch/>
          </p:blipFill>
          <p:spPr>
            <a:xfrm>
              <a:off x="2562840" y="6115680"/>
              <a:ext cx="76176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Rectangle 5"/>
            <p:cNvSpPr/>
            <p:nvPr/>
          </p:nvSpPr>
          <p:spPr>
            <a:xfrm>
              <a:off x="52560" y="4239720"/>
              <a:ext cx="3276360" cy="255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INSTITUTE FOR SCIENTIFIC AND INDUSTRIAL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SIONAL ECOTOXICOGY DOSSIER FOR AFLASAFE ZM01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 AFLASAFE ZM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nry Njap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 20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Rectangle 12"/>
          <p:cNvSpPr/>
          <p:nvPr/>
        </p:nvSpPr>
        <p:spPr>
          <a:xfrm>
            <a:off x="3886200" y="1471680"/>
            <a:ext cx="5181480" cy="375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fficacy (min 2 seasons; 2 trials /crop; all A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rodu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hysical and chemic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od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0" y="137160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VIII (Main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X (Label contents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du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 draft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"/>
          <p:cNvSpPr/>
          <p:nvPr/>
        </p:nvSpPr>
        <p:spPr>
          <a:xfrm>
            <a:off x="3746520" y="5229360"/>
            <a:ext cx="5626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registration from country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afety data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onsent letter from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cotoxicology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iped Right Arrow 22"/>
          <p:cNvSpPr/>
          <p:nvPr/>
        </p:nvSpPr>
        <p:spPr>
          <a:xfrm>
            <a:off x="2666880" y="3200400"/>
            <a:ext cx="1143000" cy="241200"/>
          </a:xfrm>
          <a:custGeom>
            <a:avLst/>
            <a:gdLst/>
            <a:ahLst/>
            <a:rect l="l" t="t" r="r" b="b"/>
            <a:pathLst>
              <a:path w="1143000" h="241300">
                <a:moveTo>
                  <a:pt x="0" y="60325"/>
                </a:moveTo>
                <a:lnTo>
                  <a:pt x="7541" y="60325"/>
                </a:lnTo>
                <a:lnTo>
                  <a:pt x="7541" y="180975"/>
                </a:lnTo>
                <a:lnTo>
                  <a:pt x="0" y="180975"/>
                </a:lnTo>
                <a:lnTo>
                  <a:pt x="0" y="60325"/>
                </a:lnTo>
                <a:close/>
                <a:moveTo>
                  <a:pt x="15081" y="60325"/>
                </a:moveTo>
                <a:lnTo>
                  <a:pt x="30163" y="60325"/>
                </a:lnTo>
                <a:lnTo>
                  <a:pt x="30163" y="180975"/>
                </a:lnTo>
                <a:lnTo>
                  <a:pt x="15081" y="180975"/>
                </a:lnTo>
                <a:lnTo>
                  <a:pt x="15081" y="60325"/>
                </a:lnTo>
                <a:close/>
                <a:moveTo>
                  <a:pt x="37703" y="60325"/>
                </a:moveTo>
                <a:lnTo>
                  <a:pt x="1022350" y="60325"/>
                </a:lnTo>
                <a:lnTo>
                  <a:pt x="1022350" y="0"/>
                </a:lnTo>
                <a:lnTo>
                  <a:pt x="1143000" y="120650"/>
                </a:lnTo>
                <a:lnTo>
                  <a:pt x="1022350" y="241300"/>
                </a:lnTo>
                <a:lnTo>
                  <a:pt x="1022350" y="180975"/>
                </a:lnTo>
                <a:lnTo>
                  <a:pt x="37703" y="180975"/>
                </a:lnTo>
                <a:lnTo>
                  <a:pt x="37703" y="60325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38:10Z</dcterms:created>
  <dc:creator>CRaphael</dc:creator>
  <dc:description/>
  <dc:language>en-US</dc:language>
  <cp:lastModifiedBy>Odhong, Jonathan (IITA)</cp:lastModifiedBy>
  <dcterms:modified xsi:type="dcterms:W3CDTF">2016-09-14T08:33:21Z</dcterms:modified>
  <cp:revision>687</cp:revision>
  <dc:subject/>
  <dc:title>Slide 1</dc:title>
</cp:coreProperties>
</file>